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D06-0924-48BA-B4C9-F960E22A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0C4-A5E2-4A3F-ADA0-A8223CFE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419-3A25-4706-A1AE-BD1FAE67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049-241E-495B-A7DE-46886F13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95AB-8184-4CFF-9FDF-A2B637AF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D509-7F17-48D2-BC69-C72A5CC6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4CBF-B838-461F-BE1E-3321CB0B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417A-E3A3-4F77-833D-2EC8CBA8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5AE2-4318-4597-95BD-2B48DA24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80B1-FE5C-4001-A032-BACA7473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06CA-18FE-47CF-A171-712C9503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E6D-206C-40FD-B05D-E6DADE3E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3A0-2AEA-4530-AA1B-ECF90E3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CEB1-399F-46C1-AF93-89AB88D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C211-0EE0-4A35-ABF2-82FE676E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10DA-5B6A-48E4-9849-93241922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A4F3-855E-4AF7-82E8-336FBE81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BA4-07FA-4DB7-B74B-764DA818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971-9087-46FA-A8A8-84F418C4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1D4-FF3A-4C2E-BF37-4BD54516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EE1-AABF-40B3-97BD-F519A1C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FBF-33A2-49FA-9F24-7275F332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BBB-FFA6-42BB-8E2A-4FA97358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A09-3ED4-44BA-AEC0-E3C712F4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43D7-80CD-43B8-858A-8A950A3F60A6}" type="slidenum"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89D9-FC2D-4B16-AAE1-FA30FE24710B}" type="slidenum"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c2b"/>
                </a:solidFill>
                <a:latin typeface="Times New Roman"/>
              </a:rPr>
              <a:t>Inter laboratory Comparative Tests</a:t>
            </a:r>
            <a:br>
              <a:rPr sz="4400"/>
            </a:br>
            <a:r>
              <a:rPr b="0" lang="en-GB" sz="4400" spc="-1" strike="noStrike">
                <a:solidFill>
                  <a:srgbClr val="004c2b"/>
                </a:solidFill>
                <a:latin typeface="Times New Roman"/>
              </a:rPr>
              <a:t>ISO 5725-2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5638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quest from the Plant Disease Committe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653080" cy="286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518148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33"/>
                </a:solidFill>
                <a:latin typeface="Arial"/>
              </a:rPr>
              <a:t>Fig. 1:  Conidiophores of Alternaria radicina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acc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391160" cy="615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emonstration of Access too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1752480"/>
          <a:ext cx="9144000" cy="151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91440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94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Interpretation of repeatability and reproducibility is not eas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a good experience on similar techniques is often necess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657600"/>
            <a:ext cx="8076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Assistance from statistic(ian)s helps to point out questions to see with expert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Experts have to draw conclusions and write re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It is always interesting to have an idea from the experts of what they think is a small/big difference within and between labs; before the experiment, and after the study. This allows to design the size of the experiment (for instance nb of replicat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c2b"/>
                </a:solidFill>
                <a:latin typeface="Times New Roman"/>
              </a:rPr>
              <a:t>Analyse of comparative trial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goal to achiev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 group of selected laborator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different existing techniques/metho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 set of samples sent and analys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technical report including statistical analysi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descriptive statistic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estimate repeatability (intra laboratory)  and reproducibility (inter laborato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Analysis of variance + tes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detect and analyse difference in estimate and in variabil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c2b"/>
                </a:solidFill>
                <a:latin typeface="Times New Roman"/>
              </a:rPr>
              <a:t>What do we need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greed and accessible method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National and/or International norms 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(ISO CEN AFNOR…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Methods available </a:t>
            </a: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(ANOVA, published tests,…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ppropriate tools for the Organiser of the tes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ppropriate analysis = f (data checked, goal of study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o-operation of various competenc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bility to keep and re-use to (check) progr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compare successive studies, compare to other stud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"/>
              </a:rPr>
              <a:t>apply different treatments on the data kep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295280"/>
            <a:ext cx="8839080" cy="61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The repeatability is a measure for the within-laboratory consistency.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P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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(n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– 1)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Repeatability variance:    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r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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P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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(n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– 1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The between-laboratory variance is a measure for variation between the participating laboratorie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d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- 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r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Between-laboratory variance: 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   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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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The reproducibility is the sum of repeatability and between-laboratory variance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Reproducibility variance: 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R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r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+ 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baseline="-25000">
                <a:solidFill>
                  <a:srgbClr val="333333"/>
                </a:solidFill>
                <a:latin typeface="Arial"/>
              </a:rPr>
              <a:t>value = for a lab, a method, a sample; each sample analysed at least twice in a lab for a method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04920"/>
            <a:ext cx="70866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Arial"/>
              </a:rPr>
              <a:t>ISO 5725-2  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when test result = numerical value obtained or computed on a continuous scal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305920" cy="73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P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where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d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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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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z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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z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– 1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P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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n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1         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Pj                    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   n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= 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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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-   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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– 1    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l=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P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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2000" spc="-1" strike="noStrike" baseline="30000">
                <a:solidFill>
                  <a:srgbClr val="333333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l = laboratory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j = metho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n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Number of test results obtained by laboratory l for method 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Number of laboratories with non-missing results for method j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Standard deviation  for method j and laboratory 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</a:t>
            </a:r>
            <a:r>
              <a:rPr b="0" lang="en-GB" sz="2000" spc="-1" strike="noStrike" u="sng">
                <a:solidFill>
                  <a:srgbClr val="333333"/>
                </a:solidFill>
                <a:uFillTx/>
                <a:latin typeface="Arial"/>
              </a:rPr>
              <a:t>Z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overall mean for method j  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Symbol"/>
                <a:ea typeface="Symbol"/>
              </a:rPr>
              <a:t>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Z</a:t>
            </a:r>
            <a:r>
              <a:rPr b="0" lang="en-GB" sz="2000" spc="-1" strike="noStrike" baseline="-25000">
                <a:solidFill>
                  <a:srgbClr val="333333"/>
                </a:solidFill>
                <a:latin typeface="Arial"/>
              </a:rPr>
              <a:t>lj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 = mean for method j and laboratory 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1600200"/>
            <a:ext cx="0" cy="1981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160020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581280"/>
            <a:ext cx="228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1676520"/>
            <a:ext cx="0" cy="1904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866920" y="1676520"/>
            <a:ext cx="228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43240" y="358128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723960"/>
            <a:ext cx="6324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ab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p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value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4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3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.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.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.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.2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0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4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3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.4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.0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.2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e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.9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52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Type of data need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99072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3 to 30 laborator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2 to XX s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2 to 10 replica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quantitative val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419112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Visible on this screen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2 lab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5 samp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2 re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ata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8229600" cy="4202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0"/>
            <a:ext cx="8229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imes New Roman"/>
              </a:rPr>
              <a:t>Include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raw data, to be kept and if possible to be reproduced in extenso in repor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means and variances by laboratory and by laboratory X sampl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repeatability and reproducibility valu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Times New Roman"/>
              </a:rPr>
              <a:t>h and k values and the test of their significanc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h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839080" cy="414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h values shows if a lab has a tendency to under or over estim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h2" descr=""/>
          <p:cNvPicPr/>
          <p:nvPr/>
        </p:nvPicPr>
        <p:blipFill>
          <a:blip r:embed="rId3"/>
          <a:stretch/>
        </p:blipFill>
        <p:spPr>
          <a:xfrm>
            <a:off x="838080" y="4456080"/>
            <a:ext cx="7315200" cy="234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954320" y="4648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1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4648320"/>
            <a:ext cx="5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1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295280" y="1828800"/>
            <a:ext cx="3353040" cy="2743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447560" y="1752480"/>
            <a:ext cx="4343400" cy="2895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76920"/>
            <a:ext cx="83808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k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763120" cy="33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380880" y="4952880"/>
          <a:ext cx="8763120" cy="164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952880"/>
                    <a:ext cx="8763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72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k values indicates the relative variability of the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2666520"/>
            <a:ext cx="3124080" cy="35053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38280" y="2666880"/>
            <a:ext cx="3505320" cy="3733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5627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638680"/>
            <a:ext cx="1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9T12:58:48Z</dcterms:created>
  <dc:creator>XXX</dc:creator>
  <dc:description/>
  <dc:language>en-US</dc:language>
  <cp:lastModifiedBy>XXX</cp:lastModifiedBy>
  <cp:lastPrinted>2001-06-10T13:58:43Z</cp:lastPrinted>
  <dcterms:modified xsi:type="dcterms:W3CDTF">2002-03-01T12:38:57Z</dcterms:modified>
  <cp:revision>18</cp:revision>
  <dc:subject/>
  <dc:title>Inter laboratory Comparative Tests ISO 5725-2</dc:title>
</cp:coreProperties>
</file>